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FC8E-F18E-422D-97F5-F307D202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61D4-CA25-43C4-99C2-35233BC4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821-4076-4BE2-B8B1-86CD67A6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CEB-D7DC-45B6-8871-DEA06F1D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0D88-024D-4539-B621-6A7C8392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FD1-7437-4818-B8FB-B27762C7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947-C549-46C6-9248-D42EE500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BB7-B752-43C1-B2F5-59825833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C5F-80AD-46B1-8768-2DE2AE39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014-2E91-4C64-996A-385E2910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CA0-5333-4B31-BCAE-10C4BB0C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3DA-2102-4672-BFCD-34E91855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042-AB71-4E52-88BD-30A7B036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46E-95C3-4720-87E1-CCE26C0C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CB30-B533-4DA1-82E0-504199EB1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und.edu/instruct/eng/fkarner/pages/cycle.htm" TargetMode="External"/><Relationship Id="rId3" Type="http://schemas.openxmlformats.org/officeDocument/2006/relationships/hyperlink" Target="http://en.wikipedia.org/wiki/Water_cycle" TargetMode="Externa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idswater.com/Common/header/Im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743200" y="6095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</a:rPr>
              <a:t>Mayet C. Mariqu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23880" y="838080"/>
            <a:ext cx="61722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4" descr=""/>
          <p:cNvPicPr/>
          <p:nvPr/>
        </p:nvPicPr>
        <p:blipFill>
          <a:blip r:embed="rId2"/>
          <a:stretch/>
        </p:blipFill>
        <p:spPr>
          <a:xfrm>
            <a:off x="-255600" y="853920"/>
            <a:ext cx="93330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0240" indent="-743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  <a:ea typeface="Courier New"/>
              </a:rPr>
              <a:t>Dendrit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743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angul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tangle 5" descr=""/>
          <p:cNvPicPr/>
          <p:nvPr/>
        </p:nvPicPr>
        <p:blipFill>
          <a:blip r:embed="rId2"/>
          <a:stretch/>
        </p:blipFill>
        <p:spPr>
          <a:xfrm>
            <a:off x="755640" y="384120"/>
            <a:ext cx="75596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3" descr="drainpat.gif"/>
          <p:cNvPicPr/>
          <p:nvPr/>
        </p:nvPicPr>
        <p:blipFill>
          <a:blip r:embed="rId3"/>
          <a:stretch/>
        </p:blipFill>
        <p:spPr>
          <a:xfrm>
            <a:off x="1981080" y="1523880"/>
            <a:ext cx="5105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pyrus"/>
              </a:rPr>
              <a:t>Factors Affecting Stream Erosion and De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veloc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- channel rough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- channel siz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- gradient, or slop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har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-ultimate (sea leve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36480" indent="-2365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-temporary or lo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100000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ctangle 4" descr=""/>
          <p:cNvPicPr/>
          <p:nvPr/>
        </p:nvPicPr>
        <p:blipFill>
          <a:blip r:embed="rId2"/>
          <a:stretch/>
        </p:blipFill>
        <p:spPr>
          <a:xfrm>
            <a:off x="2432160" y="414360"/>
            <a:ext cx="48592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14"/>
          <p:cNvGrpSpPr/>
          <p:nvPr/>
        </p:nvGrpSpPr>
        <p:grpSpPr>
          <a:xfrm>
            <a:off x="380880" y="1600200"/>
            <a:ext cx="8229600" cy="4525560"/>
            <a:chOff x="380880" y="1600200"/>
            <a:chExt cx="8229600" cy="4525560"/>
          </a:xfrm>
        </p:grpSpPr>
        <p:sp>
          <p:nvSpPr>
            <p:cNvPr id="86" name="AutoShape 11"/>
            <p:cNvSpPr/>
            <p:nvPr/>
          </p:nvSpPr>
          <p:spPr>
            <a:xfrm>
              <a:off x="380880" y="1600200"/>
              <a:ext cx="8229600" cy="45255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3" descr=""/>
            <p:cNvPicPr/>
            <p:nvPr/>
          </p:nvPicPr>
          <p:blipFill>
            <a:blip r:embed="rId2"/>
            <a:stretch/>
          </p:blipFill>
          <p:spPr>
            <a:xfrm>
              <a:off x="807840" y="2191680"/>
              <a:ext cx="7375680" cy="33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Rectangle 8" descr=""/>
          <p:cNvPicPr/>
          <p:nvPr/>
        </p:nvPicPr>
        <p:blipFill>
          <a:blip r:embed="rId3"/>
          <a:stretch/>
        </p:blipFill>
        <p:spPr>
          <a:xfrm>
            <a:off x="719280" y="433440"/>
            <a:ext cx="80229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04920" y="28954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Courier New"/>
                <a:ea typeface="Courier New"/>
              </a:rPr>
              <a:t>Abra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Courier New"/>
                <a:ea typeface="Courier New"/>
              </a:rPr>
              <a:t>Hydraulic a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Courier New"/>
                <a:ea typeface="Courier New"/>
              </a:rPr>
              <a:t>dissolving soluble material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2"/>
          <a:stretch/>
        </p:blipFill>
        <p:spPr>
          <a:xfrm>
            <a:off x="1212840" y="109440"/>
            <a:ext cx="656604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838080" y="21333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 load (traction and salt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ed l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solved l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Rectangle 4" descr=""/>
          <p:cNvPicPr/>
          <p:nvPr/>
        </p:nvPicPr>
        <p:blipFill>
          <a:blip r:embed="rId2"/>
          <a:stretch/>
        </p:blipFill>
        <p:spPr>
          <a:xfrm>
            <a:off x="1200240" y="231840"/>
            <a:ext cx="71946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Bars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(placer deposits, braided streams, meandering stream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Flood plain deposits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(natural leve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Del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Rectangle 4" descr=""/>
          <p:cNvPicPr/>
          <p:nvPr/>
        </p:nvPicPr>
        <p:blipFill>
          <a:blip r:embed="rId2"/>
          <a:stretch/>
        </p:blipFill>
        <p:spPr>
          <a:xfrm>
            <a:off x="768240" y="85680"/>
            <a:ext cx="821700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Papyrus"/>
                <a:ea typeface="Courier New"/>
              </a:rPr>
              <a:t>Meande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7"/>
          <p:cNvGrpSpPr/>
          <p:nvPr/>
        </p:nvGrpSpPr>
        <p:grpSpPr>
          <a:xfrm>
            <a:off x="685800" y="1606680"/>
            <a:ext cx="7695720" cy="5099040"/>
            <a:chOff x="685800" y="1606680"/>
            <a:chExt cx="7695720" cy="5099040"/>
          </a:xfrm>
        </p:grpSpPr>
        <p:sp>
          <p:nvSpPr>
            <p:cNvPr id="101" name="AutoShape 11"/>
            <p:cNvSpPr/>
            <p:nvPr/>
          </p:nvSpPr>
          <p:spPr>
            <a:xfrm>
              <a:off x="685800" y="1606680"/>
              <a:ext cx="7695720" cy="509904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3" descr=""/>
            <p:cNvPicPr/>
            <p:nvPr/>
          </p:nvPicPr>
          <p:blipFill>
            <a:blip r:embed="rId2"/>
            <a:stretch/>
          </p:blipFill>
          <p:spPr>
            <a:xfrm>
              <a:off x="1412640" y="2026800"/>
              <a:ext cx="6239160" cy="425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14"/>
            <p:cNvSpPr/>
            <p:nvPr/>
          </p:nvSpPr>
          <p:spPr>
            <a:xfrm>
              <a:off x="1248840" y="1910880"/>
              <a:ext cx="281520" cy="448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1342800" y="6172560"/>
              <a:ext cx="63817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7630560" y="1987200"/>
              <a:ext cx="93960" cy="426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Papyrus"/>
                <a:ea typeface="Courier New"/>
              </a:rPr>
              <a:t>Delt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SADC_okavango_delta.jpg"/>
          <p:cNvPicPr/>
          <p:nvPr/>
        </p:nvPicPr>
        <p:blipFill>
          <a:blip r:embed="rId2"/>
          <a:stretch/>
        </p:blipFill>
        <p:spPr>
          <a:xfrm>
            <a:off x="1295280" y="1905120"/>
            <a:ext cx="6782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www.idswater.com/Common/header/Im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133360" y="160020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ens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cipi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Evapo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Infilt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Runof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  <a:hlinkClick r:id="rId2"/>
              </a:rPr>
              <a:t>www.und.edu/instruct/eng/fkarner/pages/cycle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http://en.wikipedia.org/wiki/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  <a:ea typeface="Courier New"/>
              </a:rPr>
              <a:t>Physical Geology, PLUMMER, MCGEARY AND CALSON, pp221-2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  <a:hlinkClick r:id="rId3"/>
              </a:rPr>
              <a:t>http://en.wikipedia.org/wiki/Water_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Rectangle 4" descr=""/>
          <p:cNvPicPr/>
          <p:nvPr/>
        </p:nvPicPr>
        <p:blipFill>
          <a:blip r:embed="rId4"/>
          <a:stretch/>
        </p:blipFill>
        <p:spPr>
          <a:xfrm>
            <a:off x="1427040" y="42840"/>
            <a:ext cx="66693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1030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solcomhouse.com/images/hydroweath.jpg"/>
          <p:cNvPicPr/>
          <p:nvPr/>
        </p:nvPicPr>
        <p:blipFill>
          <a:blip r:embed="rId2"/>
          <a:stretch/>
        </p:blipFill>
        <p:spPr>
          <a:xfrm>
            <a:off x="838080" y="12193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2"/>
          <a:stretch/>
        </p:blipFill>
        <p:spPr>
          <a:xfrm>
            <a:off x="914400" y="1662120"/>
            <a:ext cx="7086600" cy="466236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4" descr=""/>
          <p:cNvPicPr/>
          <p:nvPr/>
        </p:nvPicPr>
        <p:blipFill>
          <a:blip r:embed="rId3"/>
          <a:stretch/>
        </p:blipFill>
        <p:spPr>
          <a:xfrm>
            <a:off x="298440" y="128520"/>
            <a:ext cx="86994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/>
          <p:cNvPicPr/>
          <p:nvPr/>
        </p:nvPicPr>
        <p:blipFill>
          <a:blip r:embed="rId2"/>
          <a:stretch/>
        </p:blipFill>
        <p:spPr>
          <a:xfrm>
            <a:off x="1743120" y="2023920"/>
            <a:ext cx="61689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A stream is a body of water with a current, confined within a bed and stream b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tangle 4" descr=""/>
          <p:cNvPicPr/>
          <p:nvPr/>
        </p:nvPicPr>
        <p:blipFill>
          <a:blip r:embed="rId2"/>
          <a:stretch/>
        </p:blipFill>
        <p:spPr>
          <a:xfrm>
            <a:off x="2511360" y="281160"/>
            <a:ext cx="35910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3" descr="fall_stream_m.jpg"/>
          <p:cNvPicPr/>
          <p:nvPr/>
        </p:nvPicPr>
        <p:blipFill>
          <a:blip r:embed="rId1"/>
          <a:stretch/>
        </p:blipFill>
        <p:spPr>
          <a:xfrm>
            <a:off x="3024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0492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-total area drainage by a stream and it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tributaries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Divide (ex. continental divid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Rectangle 4" descr=""/>
          <p:cNvPicPr/>
          <p:nvPr/>
        </p:nvPicPr>
        <p:blipFill>
          <a:blip r:embed="rId2"/>
          <a:stretch/>
        </p:blipFill>
        <p:spPr>
          <a:xfrm>
            <a:off x="1809720" y="212760"/>
            <a:ext cx="64072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ttp://www.etftrends.com/wp-content/uploads/2009/01/running-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Title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3" descr="image006.gif"/>
          <p:cNvPicPr/>
          <p:nvPr/>
        </p:nvPicPr>
        <p:blipFill>
          <a:blip r:embed="rId3"/>
          <a:stretch/>
        </p:blipFill>
        <p:spPr>
          <a:xfrm>
            <a:off x="1447920" y="1600200"/>
            <a:ext cx="5410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2:23:18Z</dcterms:created>
  <dc:creator>epoy</dc:creator>
  <dc:description/>
  <dc:language>en-US</dc:language>
  <cp:lastModifiedBy>MSU-IIT</cp:lastModifiedBy>
  <dcterms:modified xsi:type="dcterms:W3CDTF">2010-07-26T17:26:20Z</dcterms:modified>
  <cp:revision>27</cp:revision>
  <dc:subject/>
  <dc:title>Hydrologic Cycle</dc:title>
</cp:coreProperties>
</file>